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4DD7-29F5-4D93-8788-4C7B1625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B7B-6A41-4F95-8912-FAF77CBB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B6E-C89D-4A58-83ED-A9D2F8F1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7EB-EF75-4E17-ACC9-CDB73DB0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04AF-93A3-4A5B-95BD-A3DF689F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FD7-D8E3-40E9-9B4D-07BBD717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44C0-4DF4-4A1C-9D3B-32240BAC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C29-958A-404C-BBBB-42516624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A55-AD7F-4843-ACAE-E53E2FAF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3D8-420A-41B0-8AA9-BE208A36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A3F7-DD5D-4F8A-8362-CD18FFC5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ABFC-7FD6-409B-A7D8-EA63253C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E9A1-1639-4007-8550-F5C6FACF9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16.xml"/><Relationship Id="rId8" Type="http://schemas.openxmlformats.org/officeDocument/2006/relationships/slide" Target="slide15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1.xml"/><Relationship Id="rId13" Type="http://schemas.openxmlformats.org/officeDocument/2006/relationships/slide" Target="slide10.xml"/><Relationship Id="rId14" Type="http://schemas.openxmlformats.org/officeDocument/2006/relationships/slide" Target="slide7.xml"/><Relationship Id="rId15" Type="http://schemas.openxmlformats.org/officeDocument/2006/relationships/slide" Target="slide8.xml"/><Relationship Id="rId16" Type="http://schemas.openxmlformats.org/officeDocument/2006/relationships/slide" Target="slide9.xml"/><Relationship Id="rId17" Type="http://schemas.openxmlformats.org/officeDocument/2006/relationships/slide" Target="slide21.xml"/><Relationship Id="rId18" Type="http://schemas.openxmlformats.org/officeDocument/2006/relationships/slide" Target="slide20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6.xml"/><Relationship Id="rId23" Type="http://schemas.openxmlformats.org/officeDocument/2006/relationships/slide" Target="slide25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etc.usf.edu/clipart/32900/32999/clock-02-05_32999_lg.gif&amp;imgrefurl=http://etc.usf.edu/clipart/32900/32999/clock-02-05_32999.htm&amp;usg=__jhRi-8h9VolPumLQXK9sU8kIEkQ=&amp;h=700&amp;w=700&amp;sz=15&amp;hl=en&amp;start=3&amp;sig2=qfSMRRfoilqDEOtv6Fy3LQ&amp;um=1&amp;tbnid=vTLq_gqIzfCRtM:&amp;tbnh=140&amp;tbnw=140&amp;ei=-umhSc-VIZLgM4SNoMUL&amp;prev=/images%3Fq%3D2:05%2B%2Btime%2Bclock%26um%3D1%26hl%3Den%26rlz%3D1T4SKPB_enUS283US283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www.istockphoto.com/file_thumbview_approve/2991442/2/istockphoto_2991442_almost_quiting_time_clock_at_4_50.jpg&amp;imgrefurl=http://www.istockphoto.com/file_closeup/specific_objects/everyday_items/clocks/2991442_almost_quiting_time_clock_at_4_50.php%3Fid%3D2991442&amp;usg=__ltjHC7c5F4Nx6z35jGaTJI3krVk=&amp;h=380&amp;w=374&amp;sz=84&amp;hl=en&amp;start=16&amp;sig2=qA4jpyS04nzH5ObeZSXCxw&amp;um=1&amp;tbnid=W08tLRRaeScaDM:&amp;tbnh=123&amp;tbnw=121&amp;ei=OuqhSdDuHoTYNILasNcL&amp;prev=/images%3Fq%3D4:50%2B%2B%2Bon%2Blcock%26um%3D1%26hl%3Den%26rlz%3D1T4SKPB_enUS283US28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celebritybabies.typepad.com/photos/uncategorized/2008/05/12/angelina_jolie_611816cbbjpg.jpg&amp;imgrefurl=http://www.sodahead.com/question/188733/jennifer-aniston-angelina-jolie-which-one-has-true-beauty/&amp;usg=__NIRQPRkS2ni1ttuDRqVVJ2RgcxE=&amp;h=1230&amp;w=799&amp;sz=124&amp;hl=en&amp;start=3&amp;sig2=NsVOc79DNhP9uJk7DWi4Ow&amp;um=1&amp;tbnid=DnrI-SJd7Y0IUM:&amp;tbnh=150&amp;tbnw=97&amp;ei=U-uhSdi4BqX6NLbU5cwL&amp;prev=/images%3Fq%3Dangelina%2Bjolie%2Band%2Bdaughter%26um%3D1%26hl%3Den%26rlz%3D1T4SKPB_enUS283US283%26sa%3DN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www.touregypt.net/featurestories/furniture2.jpg&amp;imgrefurl=http://www.touregypt.net/featurestories/furniture.htm&amp;usg=__0EqtoBr4lu2nUv4-_qXTudnZrao=&amp;h=400&amp;w=365&amp;sz=27&amp;hl=en&amp;start=8&amp;sig2=YVnMICKcJozYC2xQ9MU_Rw&amp;um=1&amp;tbnid=LnNle_z_HrSoQM:&amp;tbnh=124&amp;tbnw=113&amp;ei=AuyhSc7zIYHWMbSKxdEL&amp;prev=/images%3Fq%3Dancient%2B%2Bchair%26um%3D1%26hl%3Den%26rlz%3D1T4SKPB_enUS283US283%26sa%3DN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farm3.static.flickr.com/2114/2179964903_1be94856ab.jpg%3Fv%3D0&amp;imgrefurl=http://flickr.com/photos/59787340%40N00/2179964903&amp;usg=__J3zNGiq_qra9blTMwCwM4P5dc-M=&amp;h=500&amp;w=333&amp;sz=88&amp;hl=en&amp;start=4&amp;sig2=TMyA_ezBvbpvC8_iOnmpxg&amp;um=1&amp;tbnid=JbmRHLtmiRCHwM:&amp;tbnh=130&amp;tbnw=87&amp;ei=qmmiSYHgKob4NJ6eqcUL&amp;prev=/images%3Fq%3Dpublic%2Bphone%2Bin%2Bisrael%26um%3D1%26hl%3Den%26rlz%3D1T4SKPB_enUS283US283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6.jpeg"/><Relationship Id="rId4" Type="http://schemas.openxmlformats.org/officeDocument/2006/relationships/hyperlink" Target="http://images.google.com/imgres?imgurl=http://www.birdwatchersdigest.com/blog/uploaded_images/FreeCouch-727675.JPG&amp;imgrefurl=http://theratingsystem.blogspot.com/2008/02/free-stuff.html&amp;usg=__Wv01Q_CX4Y0ekr-jkCEjkRTcWEk=&amp;h=375&amp;w=500&amp;sz=128&amp;hl=en&amp;start=26&amp;sig2=410harOOqjv3pXUTZKJh5w&amp;um=1&amp;tbnid=J-cO_P2zaAG9qM:&amp;tbnh=98&amp;tbnw=130&amp;ei=RWqiSaH_KoHWMZuKwdEL&amp;prev=/images%3Fq%3Dold%2B%2Bfurniture%26start%3D20%26ndsp%3D20%26um%3D1%26hl%3Den%26rlz%3D1T4SKPB_enUS283US283%26sa%3DN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bp0.blogger.com/_FT94KGHEuf4/RyNliN0DBpI/AAAAAAAAGjc/oPkQ6gZTpTA/s320/bedouins3.jpg&amp;imgrefurl=http://womenslens.blogspot.com/2007_10_01_archive.html&amp;usg=__mFMyqIM2-lqv4jxhZ1epFlbNKiw=&amp;h=234&amp;w=320&amp;sz=24&amp;hl=en&amp;start=39&amp;sig2=BVsstUCVOK53LUY-3yEC6A&amp;um=1&amp;tbnid=c8P4zpJvLxQ3dM:&amp;tbnh=86&amp;tbnw=118&amp;ei=XGuiSYeTDYb4NKqh4ccL&amp;prev=/images%3Fq%3Dbeduins%2Bon%2Bcarpet%26start%3D20%26ndsp%3D20%26um%3D1%26hl%3Den%26rlz%3D1T4SKPB_enUS283US283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lh3.ggpht.com/_g_d_B_c3yyI/Rkhw7D5aQxI/AAAAAAAAA5s/4XgEqhU1aWY/DSC01844.JPG&amp;imgrefurl=http://picasaweb.google.com/lh/photo/lBbbaVcPScD8h6eo-drPFw&amp;usg=__dvNUczOtCpVQsMiIAXW6m7S1ZXg=&amp;h=1200&amp;w=1600&amp;sz=19&amp;hl=en&amp;start=5&amp;sig2=7DI-_NDqRu8mLiikHKMMqw&amp;um=1&amp;tbnid=bEa9nBt-39sUbM:&amp;tbnh=113&amp;tbnw=150&amp;ei=ymyiSde4F9C6nQeVz9n9DQ&amp;prev=/images%3Fq%3Dhike%2Bin%2Bein%2Bgedi%26um%3D1%26hl%3Den%26rlz%3D1T4SKPB_enUS283US283%26sa%3DN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s.google.com/imgres?imgurl=http://www.pattybrdarphoto.com/ISRAEL/1029IbexAtEinGediLarge.jpg&amp;imgrefurl=http://www.pattybrdarphoto.com/ISRAEL/037DeadSea.html&amp;usg=__Gh-CKmxd_oglKOppLahQvXqA9vU=&amp;h=400&amp;w=598&amp;sz=74&amp;hl=en&amp;start=25&amp;sig2=n7-xE1hLeuiOzE0OS9hWVA&amp;um=1&amp;tbnid=-cMf-PcG5y73EM:&amp;tbnh=90&amp;tbnw=135&amp;ei=6WyiScqBIITYNPja3NcL&amp;prev=/images%3Fq%3Dhike%2Bin%2Bein%2Bgedi%26start%3D20%26ndsp%3D20%26um%3D1%26hl%3Den%26rlz%3D1T4SKPB_enUS283US283%26sa%3DN" TargetMode="External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economics.ca/jpeg/minutes1.jpg&amp;imgrefurl=http://economics.ca/2004/&amp;usg=__kofNbM2a_Uzs2zOQpigihKxlDww=&amp;h=1764&amp;w=1164&amp;sz=112&amp;hl=en&amp;start=1&amp;sig2=qPeYlKAl4TxVWpQX4GHC3g&amp;um=1&amp;tbnid=gik7o30mnLxZEM:&amp;tbnh=150&amp;tbnw=99&amp;ei=vuahSbzGA5DSMezDsJIM&amp;prev=/images%3Fq%3D1%2Bminute%26um%3D1%26hl%3Den%26sa%3DG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www.dakhlabedouins.com/img/26_bedouin_tent.jpg&amp;imgrefurl=http://www.dakhlabedouins.com/by_bedouin_life.html&amp;usg=__WyaCHKJUDHywhO4WlNNabcQ1xJU=&amp;h=683&amp;w=1024&amp;sz=121&amp;hl=en&amp;start=1&amp;sig2=lAHKPJjtIz8Jddfj1tYucQ&amp;um=1&amp;tbnid=MpgVmn4Qe6cjtM:&amp;tbnh=100&amp;tbnw=150&amp;ei=HeihScz1EYb4NOyh4ccL&amp;prev=/images%3Fq%3Dbedouin%2Btent%26um%3D1%26hl%3Den%26rlz%3D1T4SKPB_enUS283US283%26sa%3DN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www.touregypt.net/featurestories/bedouins3.jpg&amp;imgrefurl=http://www.touregypt.net/featurestories/bedouins.htm&amp;usg=__NpP-08XrYftyBOKpvmt-5yVtP1M=&amp;h=293&amp;w=400&amp;sz=39&amp;hl=en&amp;start=4&amp;sig2=6rIIQ7kZyE7Tk7vtFjtPyw&amp;um=1&amp;tbnid=LO8R1ZaVd1Xd-M:&amp;tbnh=91&amp;tbnw=124&amp;ei=YemhSem8N6W-MeqClbcL&amp;prev=/images%3Fq%3Dbedouin%2Bmen%2Bin%2Btent%26um%3D1%26hl%3Den%26rlz%3D1T4SKPB_enUS283US283%26sa%3DX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www.furniture-bargain.com/shop/images/C0911%2520Nest%2520Of%2520Tables.jpg&amp;imgrefurl=http://furniture-bargain.com/shop/index.php%3FcPath%3D22&amp;usg=__WsqwQiYhCUAO5jAKvcZP2QrFn5c=&amp;h=399&amp;w=340&amp;sz=20&amp;hl=en&amp;start=27&amp;sig2=Mw9MySgsg34gr1oDqNM0WA&amp;um=1&amp;tbnid=2zJsbytwhc8Y4M:&amp;tbnh=124&amp;tbnw=106&amp;ei=sumhSbGCNqW-MYuJycEL&amp;prev=/images%3Fq%3Dtables%26start%3D20%26ndsp%3D20%26um%3D1%26hl%3Den%26rlz%3D1T4SKPB_enUS283US283%26sa%3DN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0" y="0"/>
            <a:ext cx="9144000" cy="990720"/>
          </a:xfrm>
          <a:custGeom>
            <a:avLst/>
            <a:gdLst>
              <a:gd name="textAreaLeft" fmla="*/ 31320 w 9144000"/>
              <a:gd name="textAreaRight" fmla="*/ 9112680 w 9144000"/>
              <a:gd name="textAreaTop" fmla="*/ 31320 h 990720"/>
              <a:gd name="textAreaBottom" fmla="*/ 959400 h 990720"/>
            </a:gdLst>
            <a:ahLst/>
            <a:rect l="textAreaLeft" t="textAreaTop" r="textAreaRight" b="textAreaBottom"/>
            <a:pathLst>
              <a:path w="199296" h="21600">
                <a:moveTo>
                  <a:pt x="0" y="0"/>
                </a:moveTo>
                <a:lnTo>
                  <a:pt x="199296" y="0"/>
                </a:lnTo>
                <a:lnTo>
                  <a:pt x="199296" y="21600"/>
                </a:lnTo>
                <a:lnTo>
                  <a:pt x="0" y="21600"/>
                </a:lnTo>
                <a:close/>
              </a:path>
              <a:path fill="lightenLess" w="199296" h="21600">
                <a:moveTo>
                  <a:pt x="0" y="0"/>
                </a:moveTo>
                <a:lnTo>
                  <a:pt x="199296" y="0"/>
                </a:lnTo>
                <a:lnTo>
                  <a:pt x="198606" y="690"/>
                </a:lnTo>
                <a:lnTo>
                  <a:pt x="690" y="690"/>
                </a:lnTo>
                <a:close/>
              </a:path>
              <a:path fill="darken" w="199296" h="21600">
                <a:moveTo>
                  <a:pt x="199296" y="0"/>
                </a:moveTo>
                <a:lnTo>
                  <a:pt x="199296" y="21600"/>
                </a:lnTo>
                <a:lnTo>
                  <a:pt x="198606" y="20910"/>
                </a:lnTo>
                <a:lnTo>
                  <a:pt x="198606" y="690"/>
                </a:lnTo>
                <a:close/>
              </a:path>
              <a:path fill="darkenLess" w="199296" h="21600">
                <a:moveTo>
                  <a:pt x="199296" y="21600"/>
                </a:moveTo>
                <a:lnTo>
                  <a:pt x="0" y="21600"/>
                </a:lnTo>
                <a:lnTo>
                  <a:pt x="690" y="20910"/>
                </a:lnTo>
                <a:lnTo>
                  <a:pt x="198606" y="20910"/>
                </a:lnTo>
                <a:close/>
              </a:path>
              <a:path fill="lighten" w="199296" h="21600">
                <a:moveTo>
                  <a:pt x="0" y="21600"/>
                </a:moveTo>
                <a:lnTo>
                  <a:pt x="0" y="0"/>
                </a:lnTo>
                <a:lnTo>
                  <a:pt x="690" y="690"/>
                </a:lnTo>
                <a:lnTo>
                  <a:pt x="690" y="20910"/>
                </a:lnTo>
                <a:close/>
              </a:path>
            </a:pathLst>
          </a:custGeom>
          <a:gradFill rotWithShape="0">
            <a:gsLst>
              <a:gs pos="0">
                <a:srgbClr val="0a0a53"/>
              </a:gs>
              <a:gs pos="50000">
                <a:srgbClr val="1f1fff"/>
              </a:gs>
              <a:gs pos="100000">
                <a:srgbClr val="0a0a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5240" y="-8640"/>
            <a:ext cx="70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עברית  שיעור </a:t>
            </a:r>
            <a:r>
              <a:rPr b="1" lang="he-IL" sz="60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3</a:t>
            </a:r>
            <a:r>
              <a:rPr b="1" lang="he-IL" sz="60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85000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" action="ppaction://hlinksldjump"/>
              </a:rPr>
              <a:t>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8592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" action="ppaction://hlinksldjump"/>
              </a:rPr>
              <a:t>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90512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3" action="ppaction://hlinksldjump"/>
              </a:rPr>
              <a:t>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304920" y="28954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5" action="ppaction://hlinksldjump"/>
              </a:rPr>
              <a:t>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87972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6" action="ppaction://hlinksldjump"/>
              </a:rPr>
              <a:t>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585000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7" action="ppaction://hlinksldjump"/>
              </a:rPr>
              <a:t>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48592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8" action="ppaction://hlinksldjump"/>
              </a:rPr>
              <a:t>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190512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9" action="ppaction://hlinksldjump"/>
              </a:rPr>
              <a:t>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28954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0" action="ppaction://hlinksldjump"/>
              </a:rPr>
              <a:t>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88620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1" action="ppaction://hlinksldjump"/>
              </a:rPr>
              <a:t>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585000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2" action="ppaction://hlinksldjump"/>
              </a:rPr>
              <a:t>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48592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3" action="ppaction://hlinksldjump"/>
              </a:rPr>
              <a:t>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190512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4" action="ppaction://hlinksldjump"/>
              </a:rPr>
              <a:t>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288936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5" action="ppaction://hlinksldjump"/>
              </a:rPr>
              <a:t>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387972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6" action="ppaction://hlinksldjump"/>
              </a:rPr>
              <a:t>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585000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7" action="ppaction://hlinksldjump"/>
              </a:rPr>
              <a:t>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48592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8" action="ppaction://hlinksldjump"/>
              </a:rPr>
              <a:t>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190512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9" action="ppaction://hlinksldjump"/>
              </a:rPr>
              <a:t>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288936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0" action="ppaction://hlinksldjump"/>
              </a:rPr>
              <a:t>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387972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1" action="ppaction://hlinksldjump"/>
              </a:rPr>
              <a:t>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585000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2" action="ppaction://hlinksldjump"/>
              </a:rPr>
              <a:t>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48592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3" action="ppaction://hlinksldjump"/>
              </a:rPr>
              <a:t>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0120" y="190512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4" action="ppaction://hlinksldjump"/>
              </a:rPr>
              <a:t>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288936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5" action="ppaction://hlinksldjump"/>
              </a:rPr>
              <a:t>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387972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6" action="ppaction://hlinksldjump"/>
              </a:rPr>
              <a:t>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4040" y="1112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86320" y="1294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rial"/>
              </a:rPr>
              <a:t>השעה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___________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שתיים וחמישה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1752480"/>
            <a:ext cx="13334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-15228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806400"/>
            <a:ext cx="6096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שעה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____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4267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עשרה     לחמש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86200" y="1752480"/>
            <a:ext cx="1677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4572000"/>
            <a:ext cx="518148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36600" y="811080"/>
            <a:ext cx="489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זה  __ __ __ באוהל</a:t>
            </a:r>
            <a:r>
              <a:rPr b="0" lang="he-IL" sz="4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39120" y="4925880"/>
            <a:ext cx="97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גב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04920" y="1752480"/>
            <a:ext cx="297180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__ __   __ __  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rial"/>
              </a:rPr>
              <a:t>הילדה  הזאת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של  מי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1600200"/>
            <a:ext cx="1133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_ _ _ _      ה_ _ _    גדולה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מיטה  הזאת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209680" y="1600200"/>
            <a:ext cx="40482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rial"/>
              </a:rPr>
              <a:t>ה _ _ _ _   ה_ _   עתיק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כיסא  הזה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32320" y="1676520"/>
            <a:ext cx="1736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is public phone (is) new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טלפון הציבורי הזה חדש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14800" y="1600200"/>
            <a:ext cx="11350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8064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אלה רהיטים ישנים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168120" y="46080"/>
            <a:ext cx="4286520" cy="32194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4120" y="762120"/>
            <a:ext cx="236196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IS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IS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A BIG TENT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זה אוהל  גדול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3352680" y="1523880"/>
            <a:ext cx="2648160" cy="19828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Tent"/>
          <p:cNvPicPr/>
          <p:nvPr/>
        </p:nvPicPr>
        <p:blipFill>
          <a:blip r:embed="rId4"/>
          <a:stretch/>
        </p:blipFill>
        <p:spPr>
          <a:xfrm>
            <a:off x="2438280" y="1371600"/>
            <a:ext cx="39625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8064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THE MEN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SIT ON THIS CARPET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הגברים יושבים על השטיח הזה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2125800"/>
            <a:ext cx="18288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VERY  WO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7400" y="4545000"/>
            <a:ext cx="24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00"/>
                </a:solidFill>
                <a:latin typeface="Times New Roman"/>
                <a:cs typeface="Arial"/>
              </a:rPr>
              <a:t>כל מילה</a:t>
            </a:r>
            <a:r>
              <a:rPr b="0" lang="he-IL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449568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441972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8064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THIS HOSTEL IS IN EIN GEDI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אכסניה הזאת בעין גדי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429000" y="1951200"/>
            <a:ext cx="262908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3880" y="8064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IS TRIP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IS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TO EIN GE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טיול הזה לעין גד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82880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8120" y="46080"/>
            <a:ext cx="1285920" cy="8571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7"/>
          <a:stretch/>
        </p:blipFill>
        <p:spPr>
          <a:xfrm>
            <a:off x="5867280" y="1676520"/>
            <a:ext cx="2324160" cy="17478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8"/>
          <a:stretch/>
        </p:blipFill>
        <p:spPr>
          <a:xfrm>
            <a:off x="2971800" y="2133720"/>
            <a:ext cx="205740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e W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יא רוצ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e’s Craz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41148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יא משוגע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66680" y="4114800"/>
            <a:ext cx="670572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y (M) 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ם שרי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 Stud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וא לומ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 L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וא ג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EVERY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MINUTE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כל   דקה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2680" y="1676520"/>
            <a:ext cx="9432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EVERY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DAY HE HIK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כל  יום הוא מטייל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990720" y="1523880"/>
            <a:ext cx="23144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806400"/>
            <a:ext cx="60962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I HAVE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1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BROTHER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I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HAVE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1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SIS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411480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יש לי אח  אח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יש לי אחות אחת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33520" y="1828800"/>
            <a:ext cx="1730160" cy="2360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400800" y="2362320"/>
            <a:ext cx="182880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295280"/>
            <a:ext cx="60958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רבה בדווים  גרים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ב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_ _ _ 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אוהל</a:t>
            </a:r>
            <a:r>
              <a:rPr b="0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1663560"/>
            <a:ext cx="1676520" cy="11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762120"/>
            <a:ext cx="6095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באוהל אין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_ _ _ _ _ 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אבל   יש _ _ _ _ גדול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אכסניה    שטיח   רהיטים  טיול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45120" y="4417920"/>
            <a:ext cx="23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רהיטים   שטיח</a:t>
            </a:r>
            <a:r>
              <a:rPr b="0" lang="he-IL" sz="2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90476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806400"/>
            <a:ext cx="60962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_ _ _ _ _  יושבים בחדר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אחד   והנשים בחדר  אח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גברים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2146320"/>
            <a:ext cx="18288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שולחנות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762120"/>
            <a:ext cx="8315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באוהל אין</a:t>
            </a:r>
            <a:r>
              <a:rPr b="0" lang="he-IL" sz="4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__ __ __ __ __ __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685800"/>
            <a:ext cx="17254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0T12:13:14Z</dcterms:created>
  <dc:creator>Marchessault</dc:creator>
  <dc:description/>
  <dc:language>en-US</dc:language>
  <cp:lastModifiedBy>aschlezinger</cp:lastModifiedBy>
  <dcterms:modified xsi:type="dcterms:W3CDTF">2011-02-17T18:46:33Z</dcterms:modified>
  <cp:revision>75</cp:revision>
  <dc:subject/>
  <dc:title>No Slide Title</dc:title>
</cp:coreProperties>
</file>